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0EF-2309-4249-82A6-21D20AFE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87F-3EDC-49F5-8B01-B95C5573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9E5-90AC-4415-84C0-547EA8C6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F86-EA0C-46A5-AEA0-463F2AA2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70C1-3AD6-42FC-B15E-8CACF33E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6470-76A9-4283-A8D3-9924616A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0C66-8F33-4B5D-84D4-E668E35B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BF0D-B0BB-40E5-88AF-A710CAC2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2771-BC2A-431F-811F-ED3793D8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3C40-E172-48B0-872C-97BEFB75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AA4F-0B72-49D5-938B-7F3B8BCF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493-E194-4C7D-B474-C1C11935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A671-6ACA-406E-A6BA-8984C8B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4E55-1D64-48AB-BBEF-8C6FA0ED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DDD3-5BC9-4101-BB2E-7181D0D5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103F-5CB1-463A-9326-BDDA22EB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47E0-3E19-4900-AA00-2931E69F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5CE-32CC-4743-A5F4-A1D30B13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07B-54A3-4058-8981-1C239DF2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C33-0A7F-4B54-8246-322A6FAD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A12-C5D4-4133-B88E-0832DD0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179-33E0-4BD0-AF02-AE65C7CB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65B-B1E8-4D46-9154-7DFF7BD2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8DD-D438-4FE9-9CA2-72178AD1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2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D538-259C-43EE-B70C-1A500C2BFA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2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3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838-CE36-442E-B447-B18631F9049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ercent of Change Challenge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914400" y="167652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 Narrow"/>
              </a:rPr>
              <a:t>CAN YOU SOLVE THESE    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 Narrow"/>
              </a:rPr>
              <a:t>PROBLEMS?  Use the formula 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 Narrow"/>
              </a:rPr>
              <a:t>that you learned today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828800" y="4419720"/>
                <a:ext cx="5867280" cy="21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rigin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10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27160" y="17208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89880" y="1644480"/>
            <a:ext cx="7616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Brett Smith became a cop.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He put 1000 drug dealers in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jail his first year on the force.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He put 2500 in jail his 2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nd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year.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What was the percent of 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04040" y="2101680"/>
            <a:ext cx="8024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Brittany Berrier became a famou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doctor.  She took out 15 gall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bladders on May 15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th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.  She took ou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30 on May 18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th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.  What is the % of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increas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14640" y="2330280"/>
            <a:ext cx="783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Zack Cole shot an 86 on th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golf course on Monday.  On Friday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he shot a 95.  What is the % of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2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79280" y="1523880"/>
            <a:ext cx="7253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Kelly Dyer became a grea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writer.  She had a picnic each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year to celebrate the date of her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first published work.  The 1s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year 50 people came.  The 2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nd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year   30 people came.  What i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the percent of 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3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37960" y="2101680"/>
            <a:ext cx="7450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Last six weeks Joseph Lawhorn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ade an 88.  This six weeks he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ade a 92.  Please figur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the percen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of change.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4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89880" y="1949400"/>
            <a:ext cx="6782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Angela Smyre became a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famous architect.  She made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$90,000 in 2004.  In 2005 sh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ade $120,000.  What is th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percent of increas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5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53400" y="1643040"/>
            <a:ext cx="842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Amber Robinson became a foster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other, because she is so good with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hildren.  She took care of 8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hildren in 2003.  In 2004 she had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only 5.  What is the percent of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6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213200" y="2101680"/>
            <a:ext cx="8032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Jonathan Rogers drew 47 planes in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4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th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period.  He drew 28 in 5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th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 Narrow"/>
              </a:rPr>
              <a:t>period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.  What is the percen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of 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7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14640" y="2254320"/>
            <a:ext cx="7616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att Viers bought 42 CD’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last year.  He bought only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35 this year.  (He lost all hi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oney in the stock market)  Wha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is the percent of chang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8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37960" y="2025720"/>
            <a:ext cx="758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Lisa LaViers became a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great singer.  She was so famou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she had 12 body guards at on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oncert.  At the next concert sh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had 15 body guards.  What is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the percent of 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20:17:32Z</dcterms:created>
  <dc:creator>Faye Humbard</dc:creator>
  <dc:description/>
  <dc:language>en-US</dc:language>
  <cp:lastModifiedBy>Owner</cp:lastModifiedBy>
  <dcterms:modified xsi:type="dcterms:W3CDTF">2010-10-31T22:01:18Z</dcterms:modified>
  <cp:revision>12</cp:revision>
  <dc:subject/>
  <dc:title>Percent of Change</dc:title>
</cp:coreProperties>
</file>